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D65-F7D6-4BA9-9732-E496A7CF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557-B3FE-4325-8D56-50EC662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08B-130B-45D3-9672-2F20BCAF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8D6-72B1-4389-8E60-B96A1057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18A-C64C-40D0-A7ED-36FC3A8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2FC-0A95-4986-A992-EFAE317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248-8FF7-4735-A736-488D8F1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9EE-9789-4299-B95F-396C10ED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032-C154-43B9-96AD-370F521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D17-9640-411A-B9A3-31A3F8A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B06-D146-407B-9D75-536B01E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C5C-9A9C-47FD-BD40-37B8E9E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980E-5176-42C5-B3C3-54322603A04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851-001A-4B7C-AF54-7BA179B21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08080" y="1731960"/>
            <a:ext cx="87706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DE70-0EED-426A-9223-7076120FB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0" y="138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I. О выполнении решения коллегии управления образования администрации Староосколь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280" y="1090440"/>
          <a:ext cx="8964720" cy="5546880"/>
        </p:xfrm>
        <a:graphic>
          <a:graphicData uri="http://schemas.openxmlformats.org/drawingml/2006/table">
            <a:tbl>
              <a:tblPr/>
              <a:tblGrid>
                <a:gridCol w="1690920"/>
                <a:gridCol w="3386160"/>
                <a:gridCol w="3887640"/>
              </a:tblGrid>
              <a:tr h="23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 коллегии управления образования администрации Старооскольского городского округа от  24 июня 2020 года № 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уководителям образовательных организаций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5. Разработать и реализовать комплекс мероприятий, направленных на мотивацию классных руководителей на повышение эффективности воспитательной работ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: до 31.05.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51 образовательной организации разработан  и реализуется  комплекс мероприятий, направленных на мотивацию классных руководителей на повышение эффективности воспитательной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коллегии управления образования администрации Старооскольского городского округа от  29 октября 2020 года № 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Заместителям начальника управления образования администрации городского округа Ушаковой И.Г., Илюк Л.В., директору МБУ ДПО «СОИРО» Куропаткиной А.Н.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 Обеспечить контроль реализации региональной Стратегии «Доброжелательная школа» в образовательных организациях городского округа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: 01.06.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мках коллегии управления образования от 29 декабря 2020 года (протокол № 4)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оведен анализ реализации региональной Стратегии «Доброжелательная школа» в образовательных организациях городского округа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ыявлены проблемные поля в реализации Стратегии на территории округа и озвучены пути решения проблем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определены лучшие практики образовательных организац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F3F-F721-40D2-9A8D-0B7D23AB23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I. О выполнении решения коллегии управления образования администрации Староосколь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1656000"/>
                <a:gridCol w="2860560"/>
                <a:gridCol w="426888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коллегии управления образования администра-ции Староосколь-ского городского округа от  29 октября 2020 года № 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Директору МБУ ДПО «Старооскольский институт развития  образования» Куропаткиной А.Н.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Организовать проведение «Ярмарки ежей» с целью обсуждения часто встречающихся проблем, выявленных при картировании выбранных для бережливых проектов процессов, и выявления общих путей решения данных проб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: 31.05.202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ериод с марта по май 2021 года в ходе методических совещаний в форме видеоконференцсвязи ВКС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оведено обсуждение часто встречающихся проблем, выявленных при картировании выбранных для бережливых проектов процессо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определены общие пути решения данных пробл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формированы 56 итоговых кейсов «бережливых проект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811-47A4-47CE-89DC-B0473766F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I. О выполнении решения коллегии управления образования администрации Староосколь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981000"/>
          <a:ext cx="8785440" cy="5699160"/>
        </p:xfrm>
        <a:graphic>
          <a:graphicData uri="http://schemas.openxmlformats.org/drawingml/2006/table">
            <a:tbl>
              <a:tblPr/>
              <a:tblGrid>
                <a:gridCol w="1764000"/>
                <a:gridCol w="3315960"/>
                <a:gridCol w="3705480"/>
              </a:tblGrid>
              <a:tr h="57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коллегии управления образования администра-ции Староосколь-ского городского округа от  29 октября 2020 года № 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Руководителям общеобразовательных учреждений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. Провести аудит программы воспитания общеобразовательного учреждения в части организации индивидуальной профилактической работы с обучающимися и их семьям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: до 01.03.20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. Внести по результатам проведенного аудита изменения в части профилактической работы суицидальных проявлений среди несовершеннолетних, алкоголизма и табакокурения, употребления психоактивных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: до 01.04.20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. В период с 15 апреля 2021 года в образовательных организациях был проведен аудит программ воспитания общеобразовательных учреждениях в части организации индивидуальной профилактической работы с обучающимися и их семьями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. По результатам аудита программ воспитания образовательных организаций рекомендован для разработки и реализации план профилактической работы суицидальных проявлений среди несовершеннолетних, алкоголизма и табакокурения, употребления психоактивных веществ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8E2A-BD6A-40DB-993F-5F3E53D754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I. О выполнении решения коллегии управления образования администрации Староосколь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836640"/>
          <a:ext cx="8964720" cy="5832360"/>
        </p:xfrm>
        <a:graphic>
          <a:graphicData uri="http://schemas.openxmlformats.org/drawingml/2006/table">
            <a:tbl>
              <a:tblPr/>
              <a:tblGrid>
                <a:gridCol w="2303280"/>
                <a:gridCol w="3313080"/>
                <a:gridCol w="334836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 коллегии управления образования администрации Старооскольского городского округа от 07 апреля 2021 года № 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Начальнику отдела воспитания и дополнительного образования Ревякиной М.С., директору МБУ «Центр психолого-педагогической, медицинской и социальной помощи» Устюговой И.А.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. Организовать и провести инструктивно-методическое совещание по результатам СПТ с приглашением всех субъектов профилак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: до 30.05.202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структивно-методическое совещание по итогам социально-психологического тестирования для ответственных за проведение СПТ проведено 21.04.202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8AE-64F5-4100-A52E-4C3B7F864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I. О выполнении решения коллегии управления образования администрации Староосколь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836640"/>
          <a:ext cx="8964720" cy="5715000"/>
        </p:xfrm>
        <a:graphic>
          <a:graphicData uri="http://schemas.openxmlformats.org/drawingml/2006/table">
            <a:tbl>
              <a:tblPr/>
              <a:tblGrid>
                <a:gridCol w="1655640"/>
                <a:gridCol w="3168720"/>
                <a:gridCol w="4140360"/>
              </a:tblGrid>
              <a:tr h="251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 коллегии управления образования администрации Староосколь-ского городского округа от 07 апреля 2021 года  № 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Директору МБУ «Центр психолого-педагогической, медицинской и социальной помощи» Устюговой И.А.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2. Разработать методические рекомендации по раннему выявлению и сопровождению проблемных семей в дошкольных образовательных учреждения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: 31.05.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иалистами МБУ «ЦППМИСП» разработаны методические рекомендации по раннему выявлению и сопровождению проблемных семей в дошкольных образовательных учреждениях. Методические материалы направлены в дошкольные образовательные организации для использования в работе (письмо МБУ «ЦППМИСП» от 08.06.2021г. № 01-13-1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20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Руководителям образовательных организаций городского округ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4. Организовать в рамках внутришкольного контроля (ВШК) проверку деятельности школьной социально-психологической службы, в том числе в части выявления фактов семейного и подросткового неблагополучия, с дальнейшим принятием управленческих решен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: до 01.06.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иалистами управления образования администрации городского округа на основании решения коллегии проведено инструктивное совещание с заместителями директора образовательных организаций (протокол №  2 от 21.04.2021 год) о необходимости включения в рамках внутришкольного контроля (ВШК) проверки деятельности школьной социально-психологической службы, в том числе в части выявления фактов семейного и подросткового неблагополучия, с дальнейшим принятием управленческих решен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User</cp:lastModifiedBy>
  <dcterms:modified xsi:type="dcterms:W3CDTF">2021-06-22T18:20:17Z</dcterms:modified>
  <cp:revision>342</cp:revision>
  <dc:subject/>
  <dc:title>Слайд 1</dc:title>
</cp:coreProperties>
</file>