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8AF-7A69-42F1-A119-35C41C91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611-D335-4F75-B3BA-5945CCFE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2E6-5B3E-460E-8BC3-F01B5F5A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E26-6C77-40F4-AD98-ADD3A0E2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655-1603-4715-9EC0-6DC2EB42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911-6134-40FA-8973-D982EE8A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EFF-1C30-4289-A119-0DAABDEA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47C-551F-408A-8C86-06BCB4EC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5C9-0BC1-4EF6-BE56-FBF6D2AC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E29-CD0C-4F35-BB16-902CC12B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74D-80B0-42FE-A6FB-CA0BB5D6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EC1-82DB-4CEE-A3DE-375694A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5431-1729-4032-B4B3-D65287194351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42CF-3D1D-4A2C-8FE1-5B7B596456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208080" y="1731960"/>
            <a:ext cx="87706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8000" y="76500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РЕШЕНИЕ ПО ВТОРОМУ ВОПРОСУ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. Руководителям образовательных организаций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.4. Обеспечить реализацию программ внеурочной деятельности с применением методологии наставничества в формате «Дети-детям»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рок: 01.05.2023 год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Решение коллегии управления образования администрации Старооскольского городского округа от 22 июня 2022 года № 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РЕШЕНИЕ ПО ВТОРОМУ ВОПРОСУ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. Директору МБУ ДПО «Старооскольский институт развития образования» Куропаткиной А.Н.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.1. Организовать выявление и распространение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лучших практик повышения доступности дополнительного образования для различных категорий детей, в том числе детей с ограниченными возможностями здоровья и детей-инвалидов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лучших практик наставничества в системе дополнительного образования детей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рок: до 15.08.2023 год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.2. Обеспечить методическую поддержку образовательных организаций, реализующих дополнительные общеобразовательные программы, в обновлении содержания и технологий обучения дополнительного образования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рок: постоянн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. Директору МБУ «Старооскольский центр оценки качества образования» Луневой С.Н. провести оценку удовлетворенности обучающихся и (или) их родителей (законных представителей) доступностью и качеством предоставления образовательных услуг в сфере дополнительного образования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рок: до 15.08.2023 год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. Руководителям образовательных учреждений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.4. Обеспечить вовлечение обучающихся общеобразовательных образовательных организаций в научно-техническое творчество под научным руководством образовательных организаций, научных организаций, высокотехнологичных компаний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рок: до 01.05.2023 год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0" y="44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Решение коллегии управления образования администрации Старооскольского городского округа от 06 апреля 2022 года № 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8000" y="863640"/>
            <a:ext cx="8856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РЕШЕНИЕ ПО ВТОРОМУ ВОПРОСУ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Директору МБУ ДПО «Старооскольский институт развития образования» Куропаткиной А.Н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Провести фестиваль лучших практик организации методического сопровождения педагогических работников в образовательных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до 28.04.20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3. Организовать проведение консультаций для руководителей и педагогических работников образовательных организаций по вопросам организации образовательного процесса в соответствии с обновленными ФГ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до 01.06.20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4. Осуществлять организационно-методическое и кадровое обеспечение введения обновленного ФГОГС СОО на территории городского окру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постоян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Заместителю начальника управления образования администрации городского округа Ушаковой И.Г., директору МБУ ДПО «Старооскольский институт развития образования» Куропаткиной А.Н., директору МБУ «Старооскольский центр оценки качества образования» Луневой С.Н.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3. Организовать информационно-разъяснительную работу с руководителями и педагогическими работниками школ об основных изменениях, внесенных в обновленные ФГОС, в том числе ФГОС СО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до 31.05.20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Заместителю начальника управления образования администрации Старооскольского городского округа Илюк Л.В., начальнику отдела воспитания и дополнительного образования Ревякиной М.С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Организовать личное участие работников управления образования в посещении внеурочных занятий «Разговоры о важном» в школах окру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до 31.05.20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2. Обеспечить систематический контроль организации обратной связи от обучающихся школ округа с использованием QR-кода по итогам внеурочных занятий «Разговоры о важном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постоян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Заместителю начальника управления образования администрации городского округа Ушаковой И.Г., директору МБУ «Старооскольский центр оценки качества образования» Луневой С.Н. организовать проведение в 2023 году ГИА 9-х и 11-х классов в соответствии с Порядком проведения государственной итоговой аттестации по образовательным программам основного общего образования и Порядком проведения государственной итоговой аттестации по образовательным программам средне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до 02.10.20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0" y="44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Решение коллегии управления образования администрации Старооскольского городского округа от 28 декабря 2022 года № 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8000" y="980640"/>
            <a:ext cx="8856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РЕШЕНИЕ ПО ВТОРОМУ ВОПРОСУ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. Руководителям образовательных организаций городского округа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.3. Обеспечить тренировочные мероприятия для обучающихся на портале «Электронный банк заданий для оценки функциональной грамотности»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рок: до 12.05.202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. Руководителям общеобразовательных учреждений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.2. Осуществить обновление организационно-распорядительной и учебно-методической документации общеобразовательного учреждения в связи с введением обновленного ФГОС СОО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рок: до 12.05.202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.3. Организовать работу по сопровождению учащихся «групп риска», показывающих стабильно низкие образовательные результаты, подготовке выпускников 9-х и 11-х классов к ГИА-2023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рок: постоянн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Решение коллегии управления образования администрации Старооскольского городского округа от 30 марта 2023 года № 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Заместителю начальника управления образования Ушаковой И.Г., начальнику отдела общего образования управления образования Акимовой Н.В. обеспечить организационное сопровождение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открытия на базе школ округа специализированных - профильных предпрофессиональных классов (медицинских, педагогических, инженерных и других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профессионального обучения на базе профессиональных образовательных учреждений с прохождением практики на предприятиях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рок: до 15.08.2023 год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Решение коллегии управления образования администрации Старооскольского городского округа от 28 декабря 2022 года № 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8000" y="287280"/>
            <a:ext cx="8856720" cy="65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Решение коллегии управления образования администрации Старооскольского городского округа от 30 марта 2023 года № 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уководителям общеобразовательных учрежден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Ознакомить педагогические коллективы с положениями Единой модели профессиональной ориентации школь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до 30.08.2023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2. При формировании учебного плана, плана внеурочной деятельности, программ воспитания и дополнительного образования предусмотр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открытие профильных предпрофессиональных кла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ключение в урочную деятельность дополнительных материалов по общеобразовательным предметам, разработанных в рамках проекта «Билет в будущее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ведение не менее 1 часа внеурочной деятельности, которая будет включать профориентационные уроки, проектную деятельность, мастер-классы, деловые игры и консульт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организацию воспитательной работы с профориентационными мероприятиями на основе единой программы воспит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фессиональное обучение на базе профессиональных образовательных учреждений с прохождением практики на предприят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заимодействие с родителями в вопросах профессиональной ориентации – родительские собрания, участие родителей во встречах с представителями разных профессий и друг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до 01.09.2023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3. Осуществлять в системе «обучающийся – родители – работодатель» взаимодействие общеобразовательных учреждений с учреждениями и предприятиями в части профессиональной ориентации и будущего профессионального продвижения школь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постоян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Руководителям дошкольных образовательных учрежден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Обеспечить условия для овладения педагогами современными технологиями, используемыми для ознакомления дошкольников с профессией, формами и методами работы с детьми по профориент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до 01.09.2023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2. Отразить в образовательных программах дошкольного образования формы и методы работы  по профориентации с привлечением родителей воспитанников ДОО, социальных партн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до 01.09.2023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3. При организации развивающей предметно-пространственной среды учитывать «Рекомендации по формированию инфраструктуры дошкольных образовательных организаций и комплектации учебно-методических материалов в целях реализации образовательных программ дошкольного образования», разработанные Лабораторией дошкольного образования Института возрастной физиологии РА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: до 01.09.2023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Пользователь</cp:lastModifiedBy>
  <dcterms:modified xsi:type="dcterms:W3CDTF">2023-10-31T16:29:17Z</dcterms:modified>
  <cp:revision>341</cp:revision>
  <dc:subject/>
  <dc:title>Слайд 1</dc:title>
</cp:coreProperties>
</file>